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86E9-5616-44A8-B1D6-E112565C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5F7C-CA98-4FFC-9FEC-ED4A13BB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D0F4-7533-4ACA-8C0C-7F20FEDC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D369-1CD8-4D86-A09B-81F3475D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E2D6-A02B-4A77-8B77-7D701775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7265-0CAA-4C8F-AC04-23844F62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D77A-D1E4-4475-A589-F754FB85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3309-A9AC-4D6B-AB23-ABDE37DD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C566-056F-40B7-9863-2362B7DC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DD68-E855-42D2-BFC4-6EF6A49F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3905-FA24-485F-9645-041BDFEB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9709-8F1B-4723-8BB5-DDD59C7D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A1D3-8CDE-430B-A104-F00D3D603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UNTOS  CALIENTES  Y  PLUMAS     MANTÉL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 OBSTANTE  QUE  EL  SISTEMA TECTÓNICO   ES  DOMINADO  POR   PROCESOS  GEOLÓGICOS  QUE  OCURREN  EN  LOS MÁRGENES  DE  LAS  PLACAS,  Y  EL  ENFOQUE  PRINCIPAL  DE  LO  VISTO  HASTA AHORA   SE  CENTRA  EN  LOS  BORDES  DE  PLACAS,   EL  INTERIOR  DE  ÉSTAS  NO  ES  TOTALMENTE  PASIVO,  NI  ESTÁ  COMPLETAMENTE  QUIE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EJOS  DE  LOS  BORDES  DE  PLACA, 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S   MANTÉ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PARECEN  SER  LA  EXPRESIÓN  MAYOR  DEL  CALOR  INTERNO  DE  LA TIERRA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TRATA  DE   UNA  FUENTE   DE  MATERIAL  CALIENTE,    QUE   ASCIENDE  DESDE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MITE   DEL  NUCLEO  CON  EL   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N  FORMA  DE  LARGAS  COLUMNAS  VERTICALES,  QUE  AL  LLEGAR   CERCA  DE   LA SUPERFICIE,   PRODUCEN   LOS  CONOCID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UNTOS  CALIE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( “HOTSPOTS”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UNTOS  CALIE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SE   CARACTERIZAN  POR  PRESENTAR  UNA  VASTA  CORTEZA  HINCHADA,  ACTIVIDAD   VOLCÁNICA   INTENSA,  Y    ELEVADOS     FLUJOS  CALIENT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MAGMA  BASÁLTICO   QUE   SE  GENERA  EN  UN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UNTO   CALIEN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   SE  DISTINGUE  PORQUE   HA  DERIVADO   PARCIALMENTE   DE  VESTIGIOS  DE   ANTIGU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“SLAB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”  SUBDUCTADOS    HASTA  LAS  PROFUNDIDADES  DEL  MA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LOS  EMPLAZAMIENTOS  CONTINENTALES  SE  PUEDE   FORMAR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IOLIT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ENCIMA  DE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  MANTÉL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OR    MEZCLA  PARCIAL  CON LA CORTEZA,   O   POR  CRISTALIZACIÓN   FRACCIONADA  DEL  BAS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UNTOS     CALIENTES 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S  MANTÉ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CERCA  DEL  FONDO  OCEÁNICO,   PUEDEN PPRODUCIR  ABUNDANTE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LUJOS  BASÁL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N  EL  FONDO  DEL  OCÉANO,  Y  FORMAR   EXTENS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TEAU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CEÁN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L  CONTINUAR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CA LITOSFÉRIC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SPLAZÁNDOSE   ENCIMA  DE  LA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PLU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SE   FORMA  UNA  ANGOST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DENA  DE  MONTES  OCEÁNICOS  VOLCÁN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CON   VOLCANES ACTIVO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DUCIENTO  DIRECTAMENTE    ENCIMA    DE   LA   COLA  DE 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PLU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(Ej.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CHIPIÉLAGO   DE  HAWAI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CASO  QU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   PLU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TÉ  CENTRADA  EN   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DGE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O  ACEÁNICO,  SE  FORMA  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TEAU    VOLCÁN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LARGAD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S  MANTÉ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CERCA  DE    CONTINENTES   PUEDEN  CAUSAR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LZAMIENTOS  REGIO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RUPCIONES  D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LUJOS  CONTINENTALES  BASÁL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TAMBIÉN  SE  PUEDEN   DESARROLLAR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TEMAS  DE  CALDERAS  RIOLÍT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SI  LA  CORTEZA  CONTINENTAL  SE     MEZCLA  PARCIALMENTE  CON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MA  BASÁLTICO CALIEN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INALMENTE,  SE  PUEDE  SOSTENER  QUE  LA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PLUM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UEDEN     EFECTAR  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TEMA  CLIMÁT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LA TIERRA  Y  SU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PO MAGNÉT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7T20:10:21Z</dcterms:created>
  <dc:creator>Universidad de Chile</dc:creator>
  <dc:description/>
  <dc:language>en-US</dc:language>
  <cp:lastModifiedBy>Universidad de Chile</cp:lastModifiedBy>
  <dcterms:modified xsi:type="dcterms:W3CDTF">2001-06-27T22:33:51Z</dcterms:modified>
  <cp:revision>5</cp:revision>
  <dc:subject/>
  <dc:title>“HOTSPOTS”     Y     PLUMAS     MANTÉLICAS</dc:title>
</cp:coreProperties>
</file>